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jpeg" ContentType="image/jpeg"/>
  <Override PartName="/ppt/media/image25.wmf" ContentType="image/x-wmf"/>
  <Override PartName="/ppt/media/image27.jpeg" ContentType="image/jpeg"/>
  <Override PartName="/ppt/media/image1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EB57-1D8B-4F4F-BC30-57CD4E503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4782-B9C0-42AB-AFDF-6C38D1CB3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64F6-CF03-43E0-85B7-C5CCFDA0D7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9040-C00C-4433-A884-64CC820F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8BF7D-D248-454D-B49C-85E7BDAC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761BA-D42C-4C93-BA4F-92F62E33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00410-69BF-4CA4-BDA5-0CC3C38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8946F-C781-436A-9DD9-2AFCF2D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124CA-2218-48B8-9561-D29A3C16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9E3C3-FF35-46D1-8B2D-F66B0E3E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681FD-F2D1-44C8-8D42-D0FB384F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47826-10CD-4D69-AED1-7291EB2E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61424-7066-4C33-8F01-FC0A2C18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EFB8F-D54B-44B3-9AA4-5DFB6CFA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4641-1A09-4CC0-A3A9-39248D0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8D2E5-450D-4CEB-9235-1F064740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BCFA2-A598-4501-BD20-08524AB9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67DEE-15F1-4641-AFC2-D4C8E962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5E13D-73C7-43AA-A1FF-7B64FBD3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BFEAE-DC46-44EF-BC26-AD4AA129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5B750-BCA0-4CC3-A6EB-F7788AF5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C3A81-EF1D-4FFE-8E86-8727C5B1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6CF2F-0ED4-4B0B-9890-484B88BD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27F88-E0CB-4021-9924-D53107F1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168A1-2028-4EB3-8B63-3312F8BB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39A5-3A42-4B3F-8CB2-55D507D44B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EEC4A-0C2F-4B5E-B8B6-1D2A5DD8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447A02-70A1-436C-8B9D-CC354C8F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D16A4-A57B-48AB-9DED-67154BA3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78813E-CCAE-4F72-B093-128B4105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9519E2-0E4E-4C52-8600-BEF18DB9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054D56-3077-4D18-9C1E-9C015165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48C8B5-658B-4355-8742-E6B6063F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3F80C5-FE74-41A3-9244-CA027A2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B4801D-BEDB-461B-9403-C48B7AB1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EC128A-13D5-4C47-A359-342FA1B0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92930-D964-41E5-99BA-D91FA14842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02244B-A25D-42ED-AD51-78F7A2F6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D3B222-D144-4224-A2F2-7F0C643A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719A1B-156C-49E1-9946-E14598AB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7FD53-AD16-4A49-AEB0-533B79D8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19F3F-6EE0-4D1D-960E-C3CA0BC4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96064-819D-4285-8FA9-B7D58AE7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F7904-2F6D-495E-843F-E7BA961F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726D4-31AA-43CA-812D-BFD6482F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6B7FE-D0D7-4DAA-9160-5D94E7F6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AF6A-3812-43C6-B9C6-6D4E196B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DD62B-8737-46A7-AFDA-E07A8F54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29A2B-2562-40B2-A429-A11B9759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B814B-D22F-476D-9DB8-C04B2F94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C1A9F-74CD-494A-8FBD-0FC90383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BDBD7-82DE-4DD5-BB1D-F305FB711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022A3-1C1C-46FE-9B35-D85715BF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B67B5-86CC-444C-9350-A680CAE7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54650-67B8-4A0E-8A4B-93995EFE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DC633-FCED-4164-8B2D-95C5E5D8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0C403-8549-46E0-86DE-D49BF38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122E-EA55-453E-ACED-05C98EE4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A739E-0BA5-4BAB-B88F-39020CFD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A4A4B-A278-4C40-AD6E-9B94F792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8EF30-B616-4BFE-B738-E04C2B83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95ECF-8295-4F4B-97A8-C41C20D3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178E1-F465-4E23-94CD-7632E9EE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DEFAC-A175-45B2-BAA7-533B2D47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34840-AA31-453E-BF20-F6AAEB5B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06BF7-2C5B-4400-A3E2-C221D9BC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A4D49-F7C4-4277-B9F4-7994C0E8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67642-C1E9-4416-916C-D86D9E9C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AF6F-5769-4414-8CC4-65AD9582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7D20FE-D43C-4A39-9B0B-EEC9A95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E83D4-1DE8-4075-9426-2013C7DA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F99B5C-3C58-49AF-8C2E-72C5586D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8F796C-0451-483F-9FD9-402A3CA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22518D-D310-450E-913D-DA97A6D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24C93-2539-40AE-B6AF-7B70FE4C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2E512-6832-4B50-B54A-6D327CB6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53B08-A72C-42DF-B07A-03473241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182ED-7C5D-4106-BD34-C84F2980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86598A-FA75-4988-9324-87CC6B1C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0982-CD8F-4970-BBF9-183A0654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EFCFDB-41E5-43E9-B03B-4F6B891B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866F10-0402-424A-9CDA-10445954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47A792-FF7B-4D91-A7FB-6BE47231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025D50-CFAD-4B1B-8EC1-BF380785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E0D6A4-9949-41DD-9156-F728670C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1DFCAE-1EFD-487F-B8CF-87ABE9EA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5AA174-E145-43FE-A5B0-9438A342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0CADFA-558C-42EF-A4D9-4F0826C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AA3908-775F-46F8-9A1C-A004BB9D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84286B-A26D-4109-8517-ECC98A8F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13C9-88BB-41D6-A6F3-939ED787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816580-C783-46A2-A96E-D484B712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F5BA8-8738-438D-A4E4-B3970921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BAB8F6-6788-41C1-9DBE-69CA55EA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BD2BFD-9323-4981-91E7-5A028263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607D50-472D-4788-A68B-BA67A498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F63A72-2579-4878-9B6C-CC5CF8F4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345DD7-ECE5-4061-8979-BB32E232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489AB-9C06-43E2-8CFD-367AF75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D03E5-9D0A-411B-9042-02B39E2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3EC66F-4F42-4B57-B164-11BA94E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44382-37C8-42D3-BA10-BA5BBCC1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8AD41B-3CC2-465A-ABBB-1277351E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2E766-6A64-4C39-B661-CA7A138B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5DD79F-298C-4DC9-A70E-1921545B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A73B8B-B4FC-4AC3-84E2-19DDF254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A1EC94-F318-4BF7-9A1D-E28E5B8D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90E62F-B62C-4B5A-9435-A408680A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021F35-4434-4655-848A-2D4619CA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6A8505-8B24-4A61-AE82-E97D6006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C5645C-B598-4C38-9F68-647AE6B4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1F80A3-AE52-41CA-A40B-2CFF9965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898C-53CB-491A-89F0-8DB249C6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A5FE3C-8919-4824-9079-431A789A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9E2365-B4EF-4A83-9465-4D94AAC5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CE202A-862F-4A6C-9658-A546CD64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427E7B-A85B-4035-B26F-FC880553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D8739C-1056-43CB-A909-ECDCC433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0E2FD0-9AA3-42FD-8898-A991FF03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D86F6A-0FBF-4B6C-A8A2-1E4A869A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3D930C-3DCB-428E-8AAE-35E9E495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7F1840-EEDC-4082-BD31-696D6957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CB34C4-35F3-4185-B2AD-784E069D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E09D-19C1-45CD-964A-50E66AA1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20ABB-DCAE-493F-9F3F-385D8110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AA756B-A756-4427-B129-82644EB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10126C-F5AA-4549-B4E8-EFD4F8F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3E4A75-B71D-4002-A710-406E3CCD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246B2-2458-4C76-9AA7-CDE71EEB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3F3864-410F-4C1C-911B-1AD6EABF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D9E416-6663-4E53-AAEB-3E4DA740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EED45-6790-4997-AA25-6E90F8B8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6DA33-B8F3-46F6-B7B0-C7443BD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49F07-5ACE-423F-BCF5-AFAC324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DFC3-7931-45E3-93C0-C909008B3E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3C2F-B146-432B-8BDF-E5819BCE0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5FB3-6422-437A-A2E8-1D6E20554F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40E6-8212-468C-8669-084131D72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1318-D855-4C23-B3FF-A54BEBA97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D88-2759-410D-9F9A-6789DF9AF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8D8F-038D-4E73-9037-80CB313C9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E962-69E5-492A-A09E-CE03E0484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F989-3FA9-484D-875B-EB8D782A07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405B-47E6-440C-829B-09547CF60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y 6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3D83-358A-44AD-90C9-F769AD152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4DC0-D932-4CC3-A371-DDC890B95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975F-D7BE-4735-A4D5-64CCF099F6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596D-8E8E-4A06-898E-F4BEAEE40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67F8-8415-423A-87F8-9E2BA6D8B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A665-A532-4304-88C8-92D6516B9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8E43-4537-4E63-888B-6184D4C033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5D41-A1DC-481B-963E-5A1CEDC9E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A1A0-421C-4990-ADF2-4D38DB67C1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5F6D-366D-4E80-AF11-AC4D6732A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3E6A-7136-46A0-A94E-D96790F25D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1E1C-7025-4EA6-B302-6E8D7C6C2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5" descr="UE+EFS_L-kolor"/>
          <p:cNvPicPr/>
          <p:nvPr/>
        </p:nvPicPr>
        <p:blipFill>
          <a:blip r:embed="rId2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  <p:sp>
        <p:nvSpPr>
          <p:cNvPr id="460" name="Tytuł 1"/>
          <p:cNvSpPr/>
          <p:nvPr/>
        </p:nvSpPr>
        <p:spPr>
          <a:xfrm>
            <a:off x="0" y="121428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Sytuacja i oczekiwan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pracodawców w powiec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 Black"/>
              </a:rPr>
              <a:t>olsztyńsk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2357280" cy="2489400"/>
          </a:xfrm>
          <a:prstGeom prst="rect">
            <a:avLst/>
          </a:prstGeom>
          <a:ln w="0">
            <a:noFill/>
          </a:ln>
        </p:spPr>
      </p:pic>
      <p:pic>
        <p:nvPicPr>
          <p:cNvPr id="462" name="Obraz 14" descr=""/>
          <p:cNvPicPr/>
          <p:nvPr/>
        </p:nvPicPr>
        <p:blipFill>
          <a:blip r:embed="rId4"/>
          <a:stretch/>
        </p:blipFill>
        <p:spPr>
          <a:xfrm>
            <a:off x="428760" y="5929200"/>
            <a:ext cx="842760" cy="596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1746360" y="5930640"/>
            <a:ext cx="46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jekt Urzędu Pracy Powiatu Olsztyńskiego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walifikacje Twoim kapitałem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spó</a:t>
            </a:r>
            <a:r>
              <a:rPr b="1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łf</a:t>
            </a: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ansowany przez Unię Europejską </a:t>
            </a: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6732720" y="4508640"/>
            <a:ext cx="18763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Realizac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Obraz 11" descr="BioStat - Logo"/>
          <p:cNvPicPr/>
          <p:nvPr/>
        </p:nvPicPr>
        <p:blipFill>
          <a:blip r:embed="rId5"/>
          <a:stretch/>
        </p:blipFill>
        <p:spPr>
          <a:xfrm>
            <a:off x="6804000" y="4869000"/>
            <a:ext cx="1486080" cy="2538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0"/>
          <p:cNvSpPr/>
          <p:nvPr/>
        </p:nvSpPr>
        <p:spPr>
          <a:xfrm>
            <a:off x="6732720" y="5157720"/>
            <a:ext cx="20001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12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12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4ED3-3E4F-41FF-BFA2-33A9282B5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ole tekstowe 6"/>
          <p:cNvSpPr/>
          <p:nvPr/>
        </p:nvSpPr>
        <p:spPr>
          <a:xfrm>
            <a:off x="1619280" y="1989000"/>
            <a:ext cx="61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Funkcjonowanie badanych przedsiębiorst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Kondycja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A430-F961-48C3-9659-3E636D6C1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ole tekstowe 6"/>
          <p:cNvSpPr/>
          <p:nvPr/>
        </p:nvSpPr>
        <p:spPr>
          <a:xfrm>
            <a:off x="1000080" y="171468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liczba badanych – 40,9% – wskazała na  średni poziom kondycji przedsiębiorstwa (ani dobra, ani zła)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37% przedsiębiorców określiło kondycję swojej firmy jako dobr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7000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rognozowany popyt na produkty/usługi przedsiębiorst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DA2B-4E5B-4D6B-968E-52EC6C8B2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(29,2%) uznał, iż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pyt w ich firmie w przeciągu najbliższych 12 miesięcy nie ulegnie zmi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428840" y="2786040"/>
          <a:ext cx="6786360" cy="2855880"/>
        </p:xfrm>
        <a:graphic>
          <a:graphicData uri="http://schemas.openxmlformats.org/drawingml/2006/table">
            <a:tbl>
              <a:tblPr/>
              <a:tblGrid>
                <a:gridCol w="5286240"/>
                <a:gridCol w="1500120"/>
              </a:tblGrid>
              <a:tr h="444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wskaza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szybciej niż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 tym samym temp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rósł wolni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taki sam jak te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ędzie niższ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dno powiedzie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ół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pływ recesji gospodarczej na funkcjonowanie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228-4395-48FD-9A82-770FCCC3C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ole tekstowe 6"/>
          <p:cNvSpPr/>
          <p:nvPr/>
        </p:nvSpPr>
        <p:spPr>
          <a:xfrm>
            <a:off x="1000080" y="1714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7% respondentów uznało, iż recesja gospodarcza miała wpływ na funkcjonowanie ich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7292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Czynniki wpływające na rozwój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89DE-5BEE-49DB-B426-32D2E5F7B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ole tekstowe 6"/>
          <p:cNvSpPr/>
          <p:nvPr/>
        </p:nvSpPr>
        <p:spPr>
          <a:xfrm>
            <a:off x="100008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iczniejsza grupa respondentów uznała, iż 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 finans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łby rozwój ich przedsiębiorstwa. Niemalże równie istotny wpływ na rozwój firmy, zdaniem respondentów maj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czynniki gospodarc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6643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Bariery w rozwoju przedsiębior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AC26-32D9-41EE-9109-306CC1129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ole tekstowe 6"/>
          <p:cNvSpPr/>
          <p:nvPr/>
        </p:nvSpPr>
        <p:spPr>
          <a:xfrm>
            <a:off x="1143000" y="2143080"/>
            <a:ext cx="65721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Najpoważniejsze przeszkody w procesie rozwoju, jakie wskazują pracodawc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ariera finansowa, czyli brak środków na podjęcie konkret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Biurokracja ograniczająca rozwój podmiotów gospodarcz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byt mała ilość klientów i duża konkurencja na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7C39-82A6-41FE-986C-0BB061DED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ole tekstowe 6"/>
          <p:cNvSpPr/>
          <p:nvPr/>
        </p:nvSpPr>
        <p:spPr>
          <a:xfrm>
            <a:off x="1000080" y="52149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ostatnich dwóch lat poprzedzających badanie,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owych pracowników przyjęło 43,0% objętych badaniem fir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tomiast 57,0% respondentów odpowiedziało, że w ciągu ostatnich dwóch lat nie przyjmowali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759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1131-64B5-44A2-A13E-64A3E7C58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ole tekstowe 6"/>
          <p:cNvSpPr/>
          <p:nvPr/>
        </p:nvSpPr>
        <p:spPr>
          <a:xfrm>
            <a:off x="971640" y="1916280"/>
            <a:ext cx="73580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badanych przedsiębiorców przyjęło nowych pracowników na zasadzi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y o pracę na czas określon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nowisko takie zadeklarowało 53,0%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5,0% respondentów  zatrudniło nowych pracowników w oparciu 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ę na czas nieokreśl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onad 56% respondentów uważa, że zatrudnieni przez nich pracownicy posiadali wykształcenie adekwatne do wykonywanego przez nich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D845-F762-479B-B916-D77459A8E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ole tekstowe 6"/>
          <p:cNvSpPr/>
          <p:nvPr/>
        </p:nvSpPr>
        <p:spPr>
          <a:xfrm>
            <a:off x="714240" y="2000160"/>
            <a:ext cx="735804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grupie badanych 500 przedsiębiorstw, w ciągu ostatnich dwóch lat zatrudni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kadry zarządzając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tanowiska specjalistycz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jęto 185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średni persone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trudniono 167 osó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ecydowanie liczniejszą grupę stanowili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i sprzedawc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301 osó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Z przeprowadzonej ankiety wynika, że większość nowoprzyjętych pracowników (875 osób) stanowiły osoby wykonujące prace pr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2694-6066-4606-98F5-407B7F4DE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ole tekstowe 6"/>
          <p:cNvSpPr/>
          <p:nvPr/>
        </p:nvSpPr>
        <p:spPr>
          <a:xfrm>
            <a:off x="714240" y="1857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nowo zatrudnionych pracowników stanowiły osoby w przedziale wiekowym 25-34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071720" y="2749680"/>
            <a:ext cx="7143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Cel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Badanie lokalnego rynku pracy na terenie powiatu olsztyńskiego, miało na celu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  <a:ea typeface="Arial"/>
              </a:rPr>
              <a:t>zdiagnozowanie zapotrzebowania pracodawców na kwalifikacje i umiejętności zawodowe kandydatów do pracy  oraz usługi i instrumenty rynku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le szczegółowe projektu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sytuacji na lokalnym rynku pracy, jego dynamiki oraz kierunków zmi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 popytu na pracę w odniesieniu do ilości tworzonych przez pracodawców miejsc pracy posiadanych ofert pracy oraz pożądanych kwalifikacji i umiejętności zawodowych kandydatów do prac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ślenie zapotrzebowania pracodawców na usługi i instrumenty rynku pracy realizowane przez urząd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7E22-C442-4FE6-A4B4-9E0563D94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EB52-043E-4B7E-8ED6-B20018A65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ole tekstowe 6"/>
          <p:cNvSpPr/>
          <p:nvPr/>
        </p:nvSpPr>
        <p:spPr>
          <a:xfrm>
            <a:off x="684360" y="1916280"/>
            <a:ext cx="799128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40% pracodawców zatrudniło w ciągu ostatnich dwóch lat absolwentów szkół, osoby uczące się oraz osoby powyżej 50 roku ży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drugim biegunie znajdują się osoby niepełnosprawne, które w ostatnich dwóch latach zatrudniło tylko nieco ponad 8%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143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enie nowych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D1FF-C4F3-4D3A-A686-3E22A0267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ole tekstowe 6"/>
          <p:cNvSpPr/>
          <p:nvPr/>
        </p:nvSpPr>
        <p:spPr>
          <a:xfrm>
            <a:off x="714240" y="18572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zatrudnionych osób stanowiły osoby z wykształceniem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zasadniczym zawodowym oraz średnim zawodowy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92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ostatni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F1C8-31BE-4C80-8298-4565B89FE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7"/>
          <p:cNvSpPr/>
          <p:nvPr/>
        </p:nvSpPr>
        <p:spPr>
          <a:xfrm>
            <a:off x="785880" y="1643040"/>
            <a:ext cx="757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77 pracodawców zwalniało pracowników w ciągu ostatnich dwóch lat. Łącznie zwolnili oni 403 oso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65% osób zwolnionych w ciągu ostatnich dwóch lat to właśnie pracownicy stanowisk przy pracach prostych, usług osobistych i sprzedaw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mal dwukrotnie częściej dochodzi do zwalniania mężczyzn niż kobiet, co może wiązać się z większą ruchliwością mężczyzn na rynku pra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więcej firm zwalniało osoby w przedziale wiekowym między 35 a 44 rokiem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ecydowana większość spośród zwolnionych z pracy, tj. 52% to osoby powyżej 50 roku ży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jrzadziej zwalnianymi przez pracodawców były osoby niepełnosprawne oraz kobiety, które urodziły dziecko, łącznie obie grupy stanowiły 8,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811-6C37-44C6-82CE-893CAD8B5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ole tekstowe 6"/>
          <p:cNvSpPr/>
          <p:nvPr/>
        </p:nvSpPr>
        <p:spPr>
          <a:xfrm>
            <a:off x="785880" y="198900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Ewaluacja potrzeb szkoleniowych </a:t>
            </a:r>
            <a:br>
              <a:rPr sz="4800"/>
            </a:b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 badanych przedsiębiorstw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B730-F43D-4080-A38E-9C4AFF720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ole tekstowe 6"/>
          <p:cNvSpPr/>
          <p:nvPr/>
        </p:nvSpPr>
        <p:spPr>
          <a:xfrm>
            <a:off x="785880" y="185724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co ponad 40% przedstawicieli badanych przedsiębiorstw z powiatu olsztyńskiego wskazało, że dominującym wykształceniem wśród ich pracowników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wykształcenie średnie ogólnokształc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7047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zadowolenia z wykształc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097C-44D5-488D-9BB8-7039571BB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ole tekstowe 6"/>
          <p:cNvSpPr/>
          <p:nvPr/>
        </p:nvSpPr>
        <p:spPr>
          <a:xfrm>
            <a:off x="857160" y="5286240"/>
            <a:ext cx="7358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ecydowana większość badanych odpowiedziała, że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jest zadowolona z wykształcenia i umiejętności swoich pracownik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228680" y="1785960"/>
            <a:ext cx="6932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godność wykształcenia pracowników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 wykonywanym zaw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C845-FB23-4672-A4B8-014FD8AFB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6"/>
          <p:cNvSpPr/>
          <p:nvPr/>
        </p:nvSpPr>
        <p:spPr>
          <a:xfrm>
            <a:off x="857160" y="5286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60% przedsiębiorców wskazało, że pracownicy wykonują pracę zgodną z ich zaw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666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trudnianie osób w szczególnej sytuacji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1FAF-526E-4B7B-83CF-89A99D77A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ole tekstowe 6"/>
          <p:cNvSpPr/>
          <p:nvPr/>
        </p:nvSpPr>
        <p:spPr>
          <a:xfrm>
            <a:off x="857160" y="2214720"/>
            <a:ext cx="73580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połowa pracodawców potwierdziła, że zatrudnia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ków powyżej 50 roku ży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7% badanych oferuje pracę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obietom po urodzeniu dziec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Absolwenc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tórzy ukończyli szkołę w ciągu ostatnich dwóch lat  ora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czniowie i studenc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ą pracownikami prawie co trzeciej badanej fir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1f497d"/>
                </a:solidFill>
                <a:latin typeface="Arial"/>
              </a:rPr>
              <a:t>Zainteresowanie kształceniem pracowników/podnoszeniem ich kwalifikacji poprzez szkol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AAA8-EAEC-47EF-9B81-1F5ECCA60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00160" y="2071800"/>
            <a:ext cx="7089840" cy="3214440"/>
          </a:xfrm>
          <a:prstGeom prst="rect">
            <a:avLst/>
          </a:prstGeom>
          <a:ln w="0">
            <a:noFill/>
          </a:ln>
        </p:spPr>
      </p:pic>
      <p:sp>
        <p:nvSpPr>
          <p:cNvPr id="560" name="pole tekstowe 7"/>
          <p:cNvSpPr/>
          <p:nvPr/>
        </p:nvSpPr>
        <p:spPr>
          <a:xfrm>
            <a:off x="714240" y="557208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wie połowa badanych wyraża zainteresowanie podnoszeniem kwalifikacji swoich pracowników poprzez szkol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dotychczasowych szkoleń pracownicz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7C50-DAA8-4AA6-8DCC-6683C5E21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286760" cy="3278160"/>
          </a:xfrm>
          <a:prstGeom prst="rect">
            <a:avLst/>
          </a:prstGeom>
          <a:ln w="0">
            <a:noFill/>
          </a:ln>
        </p:spPr>
      </p:pic>
      <p:sp>
        <p:nvSpPr>
          <p:cNvPr id="564" name="pole tekstowe 7"/>
          <p:cNvSpPr/>
          <p:nvPr/>
        </p:nvSpPr>
        <p:spPr>
          <a:xfrm>
            <a:off x="714240" y="528624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tematyki, dotychczas organizowanych szkoleń, dominował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szkolenia BHP, szkolenia z zakresu sprzedaży i obsługi klienta, administracyjno-biurowe oraz szkolenia zawodow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f497d"/>
                </a:solidFill>
                <a:latin typeface="Arial"/>
              </a:rPr>
              <a:t>Metodologia bad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8552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Badanie zostało zrealizowane w okresie od października do listopada 2010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  <a:ea typeface="Arial"/>
              </a:rPr>
              <a:t>Techniki i narzędzia badawcz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danych zast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wiady kwestionariusz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50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ndywidualny wywiad pogłębiony (IDI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przedstawicielami 30 przedsiębiorstw z powiatu olsztyń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A01-9944-40D9-89FF-26BA84276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9FAD-60CC-4901-B536-64F314448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428840" y="1989000"/>
            <a:ext cx="664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Plany przedsiębiorców dotyczące zatrudnie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98BB-2BCB-48E5-BB32-01172FDFA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7"/>
          <p:cNvSpPr/>
          <p:nvPr/>
        </p:nvSpPr>
        <p:spPr>
          <a:xfrm>
            <a:off x="642960" y="1717560"/>
            <a:ext cx="75722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5% przedsiębiorców z powiatu olsztyńskiego wskazało na brak trudności z dostępnością pracowników na lokalnym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udności w tym zakresie dostrzega łącznie 29,7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mniejsze problemy ze znalezieniem nowych pracowników mają przedsiębiorstwa związane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nieruchomościami, organizacje i stowarzyszenia oraz przedsiębiorstwa z branży finansow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trudności w znalezieniu nowych pracowników pojawiają się w przedsiębiorstwach z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branży motoryzacyjnej oraz w jednostkach służby zdrow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pracowników w ciągu kolejn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20DE-53AC-4D7B-9851-BB97BC49C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7"/>
          <p:cNvSpPr/>
          <p:nvPr/>
        </p:nvSpPr>
        <p:spPr>
          <a:xfrm>
            <a:off x="857160" y="54291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oło 19% objętych badaniem osób stwierdziło, iż planuje w okresie kolejnych dwóch lat przyjąć now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214280" y="1785960"/>
            <a:ext cx="6978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lokalnego rynku pracy pod kątem dostępności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FD07-7517-4296-9835-CB720E6BB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ole tekstowe 7"/>
          <p:cNvSpPr/>
          <p:nvPr/>
        </p:nvSpPr>
        <p:spPr>
          <a:xfrm>
            <a:off x="642960" y="2500200"/>
            <a:ext cx="774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Badani przedsiębiorcy z terenu powiatu olsztyńskiego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 większości deklarują, że zatrudniliby więcej pracowników mając wsparcie lokalnych instytucji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964-1476-4F18-821A-10EDED475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ole tekstowe 7"/>
          <p:cNvSpPr/>
          <p:nvPr/>
        </p:nvSpPr>
        <p:spPr>
          <a:xfrm>
            <a:off x="500040" y="2071800"/>
            <a:ext cx="757224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dawcy, którzy wzięli udział w badaniu najczęściej poszukują pracowników na stanowiska związane z działalnością gastronomiczną, tj.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elnera, barmana, pomoc kuchen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respondentów pojawiła się dość znaczna grupa właścicieli przedsiębiorstw, którzy obecnie poszukują do pracy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robotników oraz wysoko wyspecjalizowanych pracowników w branży budowlanej, np. murarza, operatora wiert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9C98-CC55-4740-9617-44C95E14C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7"/>
          <p:cNvSpPr/>
          <p:nvPr/>
        </p:nvSpPr>
        <p:spPr>
          <a:xfrm>
            <a:off x="857160" y="2786040"/>
            <a:ext cx="71438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m zainteresowaniem ze strony badanych cieszą się osoby z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wykształceniem średnim zawodowym, zasadniczym zawodowym oraz wyższ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41C5-0C61-481E-A83B-9160645DE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7"/>
          <p:cNvSpPr/>
          <p:nvPr/>
        </p:nvSpPr>
        <p:spPr>
          <a:xfrm>
            <a:off x="857160" y="1643040"/>
            <a:ext cx="71438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Podstawowe wymagania stawiane kandyd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iadanie prawa jazd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kompute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jomości metod sprzedaży bezpośredni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34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miejętność obsługi maszy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tokarz, stolarz, etc.) (30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tawowa wiedza z zakresu księgowości, ekonomii i finans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28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potrzebowanie na pracowników – wymagania wobec kandydat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CD76-40A4-4643-BA0C-2886CAE7C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ole tekstowe 7"/>
          <p:cNvSpPr/>
          <p:nvPr/>
        </p:nvSpPr>
        <p:spPr>
          <a:xfrm>
            <a:off x="285840" y="2428920"/>
            <a:ext cx="500040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unikatyw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6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najomość branż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44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fesjonaliz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porność na stre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6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7"/>
          <p:cNvSpPr/>
          <p:nvPr/>
        </p:nvSpPr>
        <p:spPr>
          <a:xfrm>
            <a:off x="4357800" y="2786040"/>
            <a:ext cx="45720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szybkiego uczenia się/podnoszenia kwalifikacji zawodowy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h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otywacja do prac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iejętność dobrej organizacji pra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(35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7"/>
          <p:cNvSpPr/>
          <p:nvPr/>
        </p:nvSpPr>
        <p:spPr>
          <a:xfrm>
            <a:off x="1071720" y="2071800"/>
            <a:ext cx="692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Arial"/>
              </a:rPr>
              <a:t>Dodatkowe wymagania stawiane kandydato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zatrudnieniem osób w szczególnej sytuacji na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9221-35A2-4A35-B387-700FC002C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ole tekstowe 7"/>
          <p:cNvSpPr/>
          <p:nvPr/>
        </p:nvSpPr>
        <p:spPr>
          <a:xfrm>
            <a:off x="785880" y="178596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połowa przedsiębiorców objętych badaniem nie planuje przyjęć do pracy osób, które znajdują się w szczególnej sytuacji na rynku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ęć zatrudnienia w swojej firmie pracownika spośród tej grupy osób wyraża 29% ba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57200" y="3500280"/>
            <a:ext cx="6429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kala zwolnień pracowników w ciągu najbliższych 24 miesię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F0B6-572E-452B-BE5C-57913AC0B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7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Około 4% przedsiębiorców zamierza zwalniać pracowników w ciągu najbliższych dwóch 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5"/>
          <p:cNvSpPr/>
          <p:nvPr/>
        </p:nvSpPr>
        <p:spPr>
          <a:xfrm>
            <a:off x="3286080" y="2928960"/>
            <a:ext cx="3024360" cy="1079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czyny planowanych zwol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załka w dół 6"/>
          <p:cNvSpPr/>
          <p:nvPr/>
        </p:nvSpPr>
        <p:spPr>
          <a:xfrm>
            <a:off x="4572000" y="4000680"/>
            <a:ext cx="431640" cy="144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8"/>
          <p:cNvSpPr/>
          <p:nvPr/>
        </p:nvSpPr>
        <p:spPr>
          <a:xfrm>
            <a:off x="928800" y="4429080"/>
            <a:ext cx="6072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lejące dochody przedsiębiors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miar likwidacji przedsiębiorstwa lub poszczególnych placów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ieczność redukcji zatrudni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gaśnięcie umowy staż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554C-EBDA-4BA3-A9FC-40DB97150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ole tekstowe 6"/>
          <p:cNvSpPr/>
          <p:nvPr/>
        </p:nvSpPr>
        <p:spPr>
          <a:xfrm>
            <a:off x="714240" y="214308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1ACB-98F1-4657-A20F-0CA160FEF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ole tekstowe 9"/>
          <p:cNvSpPr/>
          <p:nvPr/>
        </p:nvSpPr>
        <p:spPr>
          <a:xfrm>
            <a:off x="1214280" y="1989000"/>
            <a:ext cx="671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ziom wiedzy na temat oferowanych przez Urząd form wspar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3524-D749-455E-BA4E-779C5BB8E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7"/>
          <p:cNvSpPr/>
          <p:nvPr/>
        </p:nvSpPr>
        <p:spPr>
          <a:xfrm>
            <a:off x="785880" y="2071800"/>
            <a:ext cx="75722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edsiębiorcy posiadający w swojej ocenie dobrą wiedzę na temat wsparcia udzielanego przez Urząd Pracy Powiatu Olsztyńskiego stanowią 23% ogółu bada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rdzo dobrze w tej kwestii orientuje się 8,3% przedstawicieli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8"/>
          <p:cNvSpPr/>
          <p:nvPr/>
        </p:nvSpPr>
        <p:spPr>
          <a:xfrm>
            <a:off x="1071720" y="4214880"/>
            <a:ext cx="7286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Źródła wied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dia i prasa (32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urzędu (31,6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et (29,5% wskaz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Współpraca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4052-A25A-4DAF-80B4-D2A65D08C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357960" cy="3027240"/>
          </a:xfrm>
          <a:prstGeom prst="rect">
            <a:avLst/>
          </a:prstGeom>
          <a:ln w="0">
            <a:noFill/>
          </a:ln>
        </p:spPr>
      </p:pic>
      <p:sp>
        <p:nvSpPr>
          <p:cNvPr id="610" name="pole tekstowe 6"/>
          <p:cNvSpPr/>
          <p:nvPr/>
        </p:nvSpPr>
        <p:spPr>
          <a:xfrm>
            <a:off x="571680" y="4857840"/>
            <a:ext cx="76435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zyczyny braku współpr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trudnianie nowych praco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ła aktywność działań podejmowanych przez Urzą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cza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ragmentarycznej wiedzy na temat dostępnych for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Formy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3188-E1EE-4001-897D-A9840AD2F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ole tekstowe 6"/>
          <p:cNvSpPr/>
          <p:nvPr/>
        </p:nvSpPr>
        <p:spPr>
          <a:xfrm>
            <a:off x="642960" y="2500200"/>
            <a:ext cx="764388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częstszą formą wsparcia ze strony Urzędu, z której korzystają przedsiębiorcy są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 staże, dofinansowania do stanowiska pracy oraz pośrednictw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wielu wypadkach współpraca ta opiera się również na pracach interwencyjnych oraz pomocy w poszukiwani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BC76-5066-41B9-BADE-C30E00377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6"/>
          <p:cNvSpPr/>
          <p:nvPr/>
        </p:nvSpPr>
        <p:spPr>
          <a:xfrm>
            <a:off x="642960" y="1857240"/>
            <a:ext cx="764388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Ponad 86% badanych twierdzi, że z Urzędem współpracuje się dobrze albo bardzo dobr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214280" y="3214800"/>
            <a:ext cx="6675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92F4-FCE5-4695-8FE1-C83544E0D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ole tekstowe 6"/>
          <p:cNvSpPr/>
          <p:nvPr/>
        </p:nvSpPr>
        <p:spPr>
          <a:xfrm>
            <a:off x="714240" y="52862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gólnej ocenie ponad 3/4 przedsiębiorców współpracujących z Urzędem Pracy jest zadowolonych z pozyskanych dzięki tej współpracy pracowników</a:t>
            </a: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223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cena współpracy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01E9-B5A0-42C4-8842-96C236B52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857160" y="1428840"/>
            <a:ext cx="76438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ocenie ponad jednej trzeciej przedsiębiorców z powiatu olsztyńskiego </a:t>
            </a:r>
            <a:r>
              <a:rPr b="1" lang="pl-PL" sz="2000" spc="-1" strike="noStrike">
                <a:solidFill>
                  <a:srgbClr val="1f497d"/>
                </a:solidFill>
                <a:latin typeface="Arial"/>
              </a:rPr>
              <a:t>stopień skomplikowania procedur oraz dokumentacji stosowanych przez Urząd jest ni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357200" y="3071880"/>
            <a:ext cx="7000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E02B-DF91-4030-A97D-B5BA86CAD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ole tekstowe 6"/>
          <p:cNvSpPr/>
          <p:nvPr/>
        </p:nvSpPr>
        <p:spPr>
          <a:xfrm>
            <a:off x="785880" y="2357280"/>
            <a:ext cx="764388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 stopień skomplikowania procedur stosowanych przez Urząd Pracy Powiatu Olsztyńskiego może mieć pozytywny wpływ na chęć podejmowania współpracy z Urzędem również przez podmioty, które do tej pory nie korzystały z jego wspar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interesowanie współpracą z Urzędem Pracy Powiatu Olsztyńsk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1F90-DB13-495E-A972-BBE9DAA1C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ole tekstowe 5"/>
          <p:cNvSpPr/>
          <p:nvPr/>
        </p:nvSpPr>
        <p:spPr>
          <a:xfrm>
            <a:off x="2428920" y="1928880"/>
            <a:ext cx="4000320" cy="107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e formy współpracy z Urzęd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11"/>
          <p:cNvSpPr/>
          <p:nvPr/>
        </p:nvSpPr>
        <p:spPr>
          <a:xfrm>
            <a:off x="1071720" y="3357720"/>
            <a:ext cx="664344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że (43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efundacja kosztów doposażenia lub wyposażenia stanowiska pracy dla skierowanego bezrobotnego (38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ganizacja przygotowania zawodowego dla dorosłych (19,3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ace interwencyjne (15,2% wskaza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załka w dół 13"/>
          <p:cNvSpPr/>
          <p:nvPr/>
        </p:nvSpPr>
        <p:spPr>
          <a:xfrm>
            <a:off x="4286160" y="3000240"/>
            <a:ext cx="4320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3425-6631-49A5-BDAF-BD4D6A893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ole tekstowe 11"/>
          <p:cNvSpPr/>
          <p:nvPr/>
        </p:nvSpPr>
        <p:spPr>
          <a:xfrm>
            <a:off x="857160" y="2143080"/>
            <a:ext cx="70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ak wynika z przeprowadzonego badania powiat olsztyński ma predyspozycję do rozwoju oraz wchłonięcia nowej siły roboczej. Istotne jest jednak nawiązanie ścisłej współpracy pracodawców z pracownikami  Urzędu Pracy Powiatu Olsztyńskiego, co pozwoli na dobór instrumentów i usług rynku pracy, które sprawią, iż osoby bezrobotne staną się bardziej atrakcyjne dla potencjalnych pracodawc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Ogólna charakterystyka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36B7-DF0E-427D-80B6-827668E61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ole tekstowe 6"/>
          <p:cNvSpPr/>
          <p:nvPr/>
        </p:nvSpPr>
        <p:spPr>
          <a:xfrm>
            <a:off x="357120" y="2143080"/>
            <a:ext cx="85694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kszość z badanych przedsiębiorstw powstało w ostatnich pięciu bądź dziesięciu l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em objęto jednostki, których siedziba znajdowała się na terenie powiatu olsztyńskiego lub też, których siedziba zlokalizowana na tym terenie posiadała samodzielną politykę personal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a ich liczba znajduje się w mieście Biskupiec oraz Barczewo (w sumie ponad 42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y odsetek uczestników badania (63% jednostek) stanowiły osoby fizyczne prowadzące działalność gospodarcz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3"/>
          <p:cNvSpPr/>
          <p:nvPr/>
        </p:nvSpPr>
        <p:spPr>
          <a:xfrm>
            <a:off x="3419640" y="5589720"/>
            <a:ext cx="3155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www.bio</a:t>
            </a:r>
            <a:r>
              <a:rPr b="0" lang="pl-PL" sz="2000" spc="-1" strike="noStrike">
                <a:solidFill>
                  <a:srgbClr val="c00000"/>
                </a:solidFill>
                <a:latin typeface="Berlin Sans FB Demi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Berlin Sans FB Demi"/>
              </a:rPr>
              <a:t>tat.com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76092"/>
                </a:solidFill>
                <a:latin typeface="Arial"/>
              </a:rPr>
              <a:t>Dziękujemy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BioStat - Logo"/>
          <p:cNvPicPr/>
          <p:nvPr/>
        </p:nvPicPr>
        <p:blipFill>
          <a:blip r:embed="rId1"/>
          <a:stretch/>
        </p:blipFill>
        <p:spPr>
          <a:xfrm>
            <a:off x="3500280" y="5229360"/>
            <a:ext cx="2224080" cy="36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2800440" cy="1357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5" descr="UE+EFS_L-kolor"/>
          <p:cNvPicPr/>
          <p:nvPr/>
        </p:nvPicPr>
        <p:blipFill>
          <a:blip r:embed="rId3"/>
          <a:stretch/>
        </p:blipFill>
        <p:spPr>
          <a:xfrm>
            <a:off x="6659640" y="404640"/>
            <a:ext cx="209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Zasięg terytorialny przedsiębiorstw biorących udział w bada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F419-09EA-419A-B446-9607BBD6D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29600" cy="2990880"/>
          </a:xfrm>
          <a:prstGeom prst="rect">
            <a:avLst/>
          </a:prstGeom>
          <a:ln w="0">
            <a:noFill/>
          </a:ln>
        </p:spPr>
      </p:pic>
      <p:sp>
        <p:nvSpPr>
          <p:cNvPr id="482" name="pole tekstowe 6"/>
          <p:cNvSpPr/>
          <p:nvPr/>
        </p:nvSpPr>
        <p:spPr>
          <a:xfrm>
            <a:off x="1000080" y="542916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jwiększy odsetek badanych przedsiębiorstw - 58% - obejmuje swoim zasięgiem działania biznesowego obszar powia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zatrudnienia w badanych przedsiębiorstw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1426-9D64-447A-9C88-986FEBE54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ole tekstowe 6"/>
          <p:cNvSpPr/>
          <p:nvPr/>
        </p:nvSpPr>
        <p:spPr>
          <a:xfrm>
            <a:off x="1000080" y="1928880"/>
            <a:ext cx="678672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zarządzając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prawie 40% badanych firm, jednakże w znacznej części przedsiębiorstw do tego grona zaliczał się właściciel, bądź współwłaściciel fi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 względu na duży udział firm o charakterze handlowo-usługowym w przypadku połowy badanych przedsiębiorstw zatrudnieni są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usług osobistych oraz sprze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Kadra specjalistów oraz pracowników biurowy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stępuje w około jednej trzeciej badanych jednos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Pracownicy pracujący przy pracach prost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trudnieni są w 40% badanych fi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Struktura wiekowa zatrudnionych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218F-330A-4DD8-BEA8-216E085DE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ole tekstowe 6"/>
          <p:cNvSpPr/>
          <p:nvPr/>
        </p:nvSpPr>
        <p:spPr>
          <a:xfrm>
            <a:off x="1000080" y="19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cownicy w wieku pomiędzy 25 a 34 lat dominują w 37% badanych przedsiębiorstw. Prawie jedna piąta odpowiedzi wskazywała na przedział pomiędzy 35-44 lat jako dominujący wiek zatrudnionych pracowni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28840" y="3279600"/>
            <a:ext cx="63691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Arial"/>
              </a:rPr>
              <a:t>Dominująca forma zatrudnienia pracowni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ymbol zastępczy numeru slajdu 4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2C79-830F-4E68-9327-9329E5A83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ole tekstowe 6"/>
          <p:cNvSpPr/>
          <p:nvPr/>
        </p:nvSpPr>
        <p:spPr>
          <a:xfrm>
            <a:off x="1000080" y="192888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nad połowie badanych przedsiębiorstw z powiatu olsztyńskiego dominującym rodzajem umowy jest </a:t>
            </a:r>
            <a:r>
              <a:rPr b="1" lang="pl-PL" sz="1800" spc="-1" strike="noStrike">
                <a:solidFill>
                  <a:srgbClr val="1f497d"/>
                </a:solidFill>
                <a:latin typeface="Arial"/>
              </a:rPr>
              <a:t>umowa na czas nieokreślo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357200" y="3286080"/>
            <a:ext cx="6450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7:49Z</dcterms:created>
  <dc:creator>mszkarlat BioStat</dc:creator>
  <dc:description/>
  <dc:language>en-US</dc:language>
  <cp:lastModifiedBy>Michal</cp:lastModifiedBy>
  <dcterms:modified xsi:type="dcterms:W3CDTF">2010-12-12T15:17:50Z</dcterms:modified>
  <cp:revision>356</cp:revision>
  <dc:subject/>
  <dc:title>Badanie ewaluacyjne  projektu systemowego  „Cel – praca”</dc:title>
</cp:coreProperties>
</file>